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EB7-F634-4EC4-826C-739DDE87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E06-3C33-417B-A6EE-64BBEEA6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96D-6F67-46CF-A296-51D08349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24D-4C8C-41A8-B199-9AC009A2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B666-F40D-49E7-8D22-C9DAB55C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B70D-3479-4CCE-A5F9-3E54E4CB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8CD9-C4F7-41BF-A929-27306186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F02B-4E00-4A78-87EF-22DC25FE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65D3-E83E-4D50-9AFD-6DA1FC2A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9100-C2B7-4D7F-A572-9F159F2E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EFE9-9626-4DA7-8DEC-3449DCD9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22F-24B6-4B58-A9E6-AB6EDC17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EB33-E691-41A4-921D-FF2DC3BF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0376-487D-41CF-AABA-9AB3A4D8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316C-54D6-4ED8-AD71-22647F23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E8FB-367B-4F7B-BFA6-664071E1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E1A7-A36E-4C00-ABE2-69241B70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E6C-3494-4D8B-B666-46275986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845-1FFE-4415-9255-21981BEE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915-A6EA-47E1-8858-5B6DA6AF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546-A815-4A7F-846F-7294B861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AF5-7677-40B9-B168-22654351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2C6-C5F4-4580-BA76-FEE76FB6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4AF-2DCC-4DE1-94F4-9074F83A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CDF3-04AF-42B7-AB6E-DAC058D97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7A5C-016D-483E-A9D6-F20784755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Research, Art, and Heart of </a:t>
            </a: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eaching Reading 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clear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you expect = What you get.”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or desired behavior and ef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tch them being goo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He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s of excellence have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ep knowledge that they make a difference in academics and behavio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husia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program/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i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aci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hildre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He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 with pa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 with compa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bany School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ugust 2006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ta L. Archer,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erteach@a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Re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-base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-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Re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atic, Intentional, Explicit, Robu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in instruction (Skill or strategy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do i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l skill or strateg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o i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uide performance of strateg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do i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eck understand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Re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s in instruction (Concept or vocabul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e th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student-friendly expla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e with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understanding with examples and non-ex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Re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cit responses from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arning is not a spectator sport.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atically correct any errors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 to maste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n’t leave students overexposed and underdevelop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and adj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and adju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i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ruction and practice in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and adj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ment through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y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d maintain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cit 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a “perky pac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lose proxim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with your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ile, n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ir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humor and de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with enthusia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the behaviors that you exp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Don’t commit assumicide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rrect before challenges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Anticipate and remove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ctive, engaging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void the void…for they will fill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21:39:34Z</dcterms:created>
  <dc:creator>Archer Anita</dc:creator>
  <dc:description/>
  <dc:language>en-US</dc:language>
  <cp:lastModifiedBy>esims</cp:lastModifiedBy>
  <dcterms:modified xsi:type="dcterms:W3CDTF">2006-09-28T15:23:29Z</dcterms:modified>
  <cp:revision>16</cp:revision>
  <dc:subject/>
  <dc:title>  The Research, Art, and Heart of  Teaching</dc:title>
</cp:coreProperties>
</file>